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17.png" ContentType="image/png"/>
  <Override PartName="/ppt/media/image4.jpeg" ContentType="image/jpeg"/>
  <Override PartName="/ppt/media/image8.gif" ContentType="image/gif"/>
  <Override PartName="/ppt/media/image16.png" ContentType="image/pn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E919-DA4B-4C93-A202-8671B09D9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EB08-E71A-483A-9C04-9E3AD3CC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B04D-AE4E-4BC2-B205-14DA3C45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D4D2-5007-4CCB-BC68-2EFF22A6F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84EE-5EB3-4FB2-ABDB-8B4D6940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4235-C688-491A-B68D-B17B1CCD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2A9B-1C70-4366-A2F5-CA637BAB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8864-6E4A-43CB-A76E-DDCBDF0C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0579-1E70-4898-A34E-2B26877C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FDD3-A728-41D0-8390-A65AFE4C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0175-A0A4-44AE-A314-10900EFB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3336-F29C-482E-AC93-329E817F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438E-92D0-4391-9C13-685D1073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25EA-2BA9-4183-A2CA-46E18EC2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064B-EA1C-4317-9080-B282D3ED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AE2C-02C1-4262-9067-B512E23AD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DD4B-16F9-4F54-9800-EE42F351E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0BA5-D741-48C2-933F-87137B53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9D84-0AF4-4321-BE07-5F6C3C49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9C5A-7FE9-4137-AA11-90EC2C3B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94AA-81E4-42F3-96EA-680A0661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71A3-13D0-4D20-B618-4A0291CE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1A10-DAFA-4560-B2AE-14B6AEA4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CC30-912D-454A-A45B-4D984033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F2D2-51C0-4FCC-AAFB-A16E23BFFA8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8C5A-D1C5-4A92-9896-6848BD8F519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online.cctt.org/physicslab/content/Phy1/lessonnotes/atomic/atomicmodelsandspectra.asp" TargetMode="External"/><Relationship Id="rId2" Type="http://schemas.openxmlformats.org/officeDocument/2006/relationships/hyperlink" Target="http://micro.magnet.fsu.edu/electromag/java/rutherford/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ip.org/history/electron/jjappara.htm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hapter 4/25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ic Struc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clear Chemi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Nucleus Exists!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11- Ernest Rutherford uses the gold foil experiment to “discover” the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114800" y="2266920"/>
            <a:ext cx="50292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Gold Foil Experi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1722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Results of Gold Foil Experiment…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online.cctt.org/physicslab/content/Phy1/lessonnotes/atomic/atomicmodelsandspectra.as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http://micro.magnet.fsu.edu/electromag/java/rutherford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ver 98% of the particles went straight throug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bout 2% of the particles went through but were deflected by large angl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bout 0.01% of the particles bounced off the gold foi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utherford’s Conclu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066320" y="1981080"/>
            <a:ext cx="7543800" cy="4114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066680" y="1905120"/>
            <a:ext cx="75438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Rutherford's Nuclear Model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685440"/>
            <a:ext cx="7543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. The atom contains a tiny dense center called the nucleu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volume is about 1/10 trillionth the volume of the atom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. The nucleus is essentially the entire mass of the at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. The nucleus is positively charg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amount of positive charge of the nucleus balances the negative charge of the electr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The electrons move around in the empty space of the atom surrounding the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worker James Chadwick later adds neu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Understanding Periodic Block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9.098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4482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omic Nu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# of prot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ment Symb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s Nu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ons + Neutr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666880" y="3504960"/>
            <a:ext cx="2438640" cy="1904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2362320" y="2742840"/>
            <a:ext cx="27432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362320" y="2286000"/>
            <a:ext cx="2743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an 20.0983 Neutrons Exist??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, 39.0983 is an average mass of all natural K at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K atoms MUST have 19 prot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have 20 neutrons, some 19, some 21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erage is 20.0983 neu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vidual isotopes are identified by the number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neu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dentifying Protons, Neutrons, and Electr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lorine-35 (element-mass numb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of protons = 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electrons = # 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neutrons = mass number – 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5-17 = 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no electrons in atomic mas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 has mass 1/1837 of Proton and Neutr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395360" indent="-4903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Nuclear symbol not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nuclide symbol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766520" indent="-40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ample: 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27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1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   or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27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66520" indent="-40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# protons =    ______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66520" indent="-40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# neutrons =  ______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66520" indent="-40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# electrons =  ______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95360" indent="-4903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blems that ari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766520" indent="-40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Charges and Ion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only changes the number of electrons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66520" indent="-40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Finding mass numbe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use symbol, # p+ and n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or periodic table IN THAT ORDER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tomic Mass Uni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-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prot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neu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amu = 1/12 mass of a C-12 at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 Long, Long Time Ago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eek Philosophers- 4 elements are Earth, Water, Fire, and A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istotle- first recorded atomic though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tter is continuous (no ato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ocritus (400 B.C.) - first recorded atomic the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oms are smallest part of matter, each type of matter has different ato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Nuclear Stability- too many neutrons or protons causes instability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9" name="" descr="nstability.jpg (45085 bytes)"/>
          <p:cNvPicPr/>
          <p:nvPr/>
        </p:nvPicPr>
        <p:blipFill>
          <a:blip r:embed="rId1"/>
          <a:srcRect l="15119" t="9927" r="16082" b="0"/>
          <a:stretch/>
        </p:blipFill>
        <p:spPr>
          <a:xfrm>
            <a:off x="1219320" y="1981080"/>
            <a:ext cx="6476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hemical vs. Nuclear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2" marL="1282680" indent="-4507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emical Chang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produces new kinds of matter with new proper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23600" indent="-3754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volves breaking and forming BON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23600" indent="-3754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omplished by rearrangement of ELECTR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82680" indent="-4507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Nuclear Chang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produces a new nucleus that contains less ener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23600" indent="-3754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volves emission or capture of nuclear parti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23600" indent="-3754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omplished by changing PROTONS and NEUTRONS in nucle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uclear Deca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clear Parti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pha- rapidly moving He nuclei with a (+) char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a – rapidly moving electrons with a (-) char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mma – rapidly moving electromagnetic radiation with no mass or char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686640" y="5052960"/>
            <a:ext cx="22287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57880" y="5052960"/>
            <a:ext cx="22287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5052960"/>
            <a:ext cx="25527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5052960"/>
            <a:ext cx="19051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ual Haz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86640" y="4108320"/>
            <a:ext cx="22287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-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57880" y="4108320"/>
            <a:ext cx="22287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05120" y="4108320"/>
            <a:ext cx="25527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4108320"/>
            <a:ext cx="19051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ological Haz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686640" y="3297240"/>
            <a:ext cx="2228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57880" y="3297240"/>
            <a:ext cx="2228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05120" y="3297240"/>
            <a:ext cx="2552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297240"/>
            <a:ext cx="190512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86640" y="1925640"/>
            <a:ext cx="2228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rd (2 cm lea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57880" y="1925640"/>
            <a:ext cx="2228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um (aluminum foi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1925640"/>
            <a:ext cx="2552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s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skin/cloth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925640"/>
            <a:ext cx="1905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ie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86640" y="1116000"/>
            <a:ext cx="222876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57880" y="1116000"/>
            <a:ext cx="222876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-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05120" y="1116000"/>
            <a:ext cx="255276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116000"/>
            <a:ext cx="19051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86640" y="304920"/>
            <a:ext cx="2228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MMA (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γ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57880" y="304920"/>
            <a:ext cx="2228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A (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05120" y="304920"/>
            <a:ext cx="2552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PHA (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04920"/>
            <a:ext cx="190512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04920"/>
            <a:ext cx="891540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116000"/>
            <a:ext cx="8915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925640"/>
            <a:ext cx="8915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297240"/>
            <a:ext cx="8915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108320"/>
            <a:ext cx="8915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5997600"/>
            <a:ext cx="891540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04920"/>
            <a:ext cx="0" cy="569268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304920"/>
            <a:ext cx="0" cy="5692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57880" y="304920"/>
            <a:ext cx="0" cy="5692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686640" y="304920"/>
            <a:ext cx="0" cy="5692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915400" y="304920"/>
            <a:ext cx="0" cy="569268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5052960"/>
            <a:ext cx="8915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ther Radi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40080" indent="-640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onizing Radiation- has significant energy to change atoms and molecules into 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730880" indent="-40032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ypes: alpha, beta, gamma, x-ray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730880" indent="-40032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ffects to living organisms: changes in, DNA (cell death/cance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7308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40080" indent="-640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ionizing radiation- does not have significant energy to ionize atoms or molecules (types: microwaves, visible light, radiowav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uclear Reac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5000" indent="-577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mutation- Changing the nucleus of the atom to create a new el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35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35000" indent="-577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is a Nuclear Equation Writt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ent nuclide- initial nucleus that undergoes chan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ughter nuclide- nucleus resulting from decay of par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ypes of Nuclear Reac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pha Emission- generally occurs if nucleus has too many protons and neu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60240" indent="-6602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a Emission- results from conversion of neutron to proton and occurs if nucleus has too many neu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60240" indent="-6602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itron Emission- results from conversion of proton to neutron and occurs if nucleus has too few neu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60240" indent="-6602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mma Emission- often accompanies other decay process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xample: Alpha Deca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52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99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______    +   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aeaea"/>
                </a:solidFill>
                <a:latin typeface="Tahoma"/>
              </a:rPr>
              <a:t>Radioactive Decay </a:t>
            </a:r>
            <a:br>
              <a:rPr sz="4000"/>
            </a:br>
            <a:r>
              <a:rPr b="0" i="1" lang="en-US" sz="4000" spc="-1" strike="noStrike">
                <a:solidFill>
                  <a:srgbClr val="eaeaea"/>
                </a:solidFill>
                <a:latin typeface="Tahoma"/>
              </a:rPr>
              <a:t>Half-lives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2640" y="2209680"/>
            <a:ext cx="6248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lf-life is the time taken for half of the atoms of a radio-active substance to dec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914400" y="3886200"/>
            <a:ext cx="822960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Half-lif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9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lf-lives can range from a millionth of a second to millions of y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257800" y="228600"/>
            <a:ext cx="3483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ristotle and Democrit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22200" y="1981080"/>
            <a:ext cx="3383280" cy="4114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070600" y="1981080"/>
            <a:ext cx="3382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acti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half-life of Zn-71 is 2.4 minutes. If one had 100.0 g at the beginning, how many grams would be left after 7.2 minutes has elapsed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rmium-253 has a half-life of 0.334 seconds. If a radioactive sample is considered to be completely decayed after 10 half-lives. How much time will elapse for this sample to be considered gon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aeaea"/>
                </a:solidFill>
                <a:uFillTx/>
                <a:latin typeface="Tahoma"/>
              </a:rPr>
              <a:t>Radioactive Dat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s carbon-14 to tell age of fossi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-14 is present constantly in atmosphe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5.3 decays/min in living organ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ays/min decreases by ½ every 5730 years an organism is de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ly useful to 60,000 yrs a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aeaea"/>
                </a:solidFill>
                <a:uFillTx/>
                <a:latin typeface="Tahoma"/>
              </a:rPr>
              <a:t>Trac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dioactive isotopes used to track pathw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mistry/biology- pathways of reac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ustry and environment- path of groundwater, durability of contain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dicine- diagnose malfunction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Nuclear Reactions for Energy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ssion- nucleus broken into 2 smaller nucle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sion- smaller nuclei join to form a larger, more stable nucle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actants and Produc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ssion-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9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235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 fuel used in a chain rea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mited resour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itical mass- minimum mass to sustain chain re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isk of runaway chain re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duces radioactive waste produc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posal concer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action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ion-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 and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 used as fu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tracted from sea wa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t a chain re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 risk of runaway reactio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nradioactive waste: helium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Problem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eds temp of 200 Million 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action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48765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0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Nuclear Power-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generated by a controlled </a:t>
            </a:r>
            <a:r>
              <a:rPr b="1" lang="en-US" sz="4000" spc="-1" strike="noStrike" u="sng">
                <a:solidFill>
                  <a:srgbClr val="eaeaea"/>
                </a:solidFill>
                <a:uFillTx/>
                <a:latin typeface="Tahoma"/>
              </a:rPr>
              <a:t>fission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chain reactio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3580920"/>
            <a:ext cx="36957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ol rods- absorb neutrons to slow the chain rea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de of cadmi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erted or withdrawn to keep temp of reaction stea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257800" y="3505320"/>
            <a:ext cx="3695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80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derators- slow neutrons down so they DO hit uranium fuel ro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80240" indent="-4802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de of water, beryllium, or graphi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80240" indent="-48024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nded to allow neutrons to be absorbed by uranium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486400" y="304920"/>
            <a:ext cx="3267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oling and Shielding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er- acts as a coolant and transfers heat between reactor and turbines that produce electri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el &amp; concrete- surround core and protect personnel by absorbing radia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8839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uclear Meltdowns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rynobyl (Soviet Union, 198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4953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unaway fission reaction from core meltdow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4953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diation escaped to atmosph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4953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1 dead, estimated 15,000 cancer deaths in next 50 yea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ree Mile Island (Pennsylvania, 197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rtial meltdow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ained before widespread damag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5438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 Long Time Ago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oine Lavoisier (178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d experiments in closed containers to develop the LC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seph Proust (1799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lyzed water to develop the Law of Definite Propor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hn Dalton (180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iled past research to develop the first useful atomic the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avoisier and Prous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3554640" cy="4800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38592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John Dalt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lton’s theory had 4 major tene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l matter is composed of ato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oms are indivisi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oms of 1 element are alike, but different from those of other ele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oms combine in small, whole number ratios to form compoun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52680" y="2232000"/>
            <a:ext cx="27241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 Reminde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servation, Observation, Observ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ear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ypoth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eriment, Revise hypothesis lots of ti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s match….may become a the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 Little While Ago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897- J.J. Thomson discovers the electron using a cathode ray tub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6000"/>
          </a:blip>
          <a:stretch/>
        </p:blipFill>
        <p:spPr>
          <a:xfrm>
            <a:off x="304920" y="2590920"/>
            <a:ext cx="4952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athode Ray Tube Experiment</a:t>
            </a:r>
            <a:br>
              <a:rPr sz="4000"/>
            </a:br>
            <a:r>
              <a:rPr b="1" lang="en-US" sz="2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www.aip.org/history/electron/jjappara.htm</a:t>
            </a:r>
            <a:br>
              <a:rPr sz="24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066320" y="1981080"/>
            <a:ext cx="754380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371600" y="2133720"/>
            <a:ext cx="72388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21:56:12Z</dcterms:created>
  <dc:creator>cmichene</dc:creator>
  <dc:description/>
  <dc:language>en-US</dc:language>
  <cp:lastModifiedBy>udsd</cp:lastModifiedBy>
  <dcterms:modified xsi:type="dcterms:W3CDTF">2008-10-28T17:32:13Z</dcterms:modified>
  <cp:revision>52</cp:revision>
  <dc:subject/>
  <dc:title>Chapter 2</dc:title>
</cp:coreProperties>
</file>